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3390C-3070-4538-A714-9069144E9F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11D-EA50-40D5-A42E-BF5EA9A3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C60-90DB-433A-8504-1B531F9C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6F2-5501-40DE-9BD5-FE15FACC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AA2-A431-4756-9CE9-2857FF96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F19-8FC3-4F6D-B506-EC1B629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996C-41BB-46EC-83FD-96AE1E0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11FF-E255-45E7-91D6-50A47042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330E-B237-4870-AC1E-8ADE792D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87B-8718-450D-B748-7537E9E7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9F27-4CB3-40A0-9089-71251C9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EEC2-94C9-4AA1-910E-C5D6927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F5F-9256-41E8-A2D8-98E40D9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67E5-D9A8-4BDC-969A-F024DC0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DE0D-7E25-403A-9A8A-FD8C83B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492E-A328-4029-9554-E39A8DC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529-D091-4F8C-8943-205F8C92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B672-D693-43A2-9954-942A27F5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68CA-5551-41FC-9D2E-069113AC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5A9A-8C5D-47E7-BA0D-FF43111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7C0B-1CEA-4624-A28B-73A6AF3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E7FD-35C5-4067-975C-F78EECC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C020-423E-4301-A573-C741B5A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432-56A1-4717-BBFB-79E72D5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4F80-F3AB-4C7A-B4E0-B24BB8B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CF0A-4715-4BE1-A6E1-C8093C1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B306-AAED-4E54-B784-D3CEBBC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89C6-55B6-4CB9-9CCA-90688BC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4F6C-7D53-43E5-8CB2-76D3588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C3D6-DD1C-4963-997E-67B29CC6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0EDD-6184-4F82-8F1A-2A127441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DBD3-6924-421E-A3A1-7322F214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56EB-C76E-43DF-B9DD-CA99095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599-312B-4300-9719-2AF62F1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71D-E00C-42A0-875A-7E5EA20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E9DC-5F38-4D36-8F5F-0B06C4E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FC6F-84F0-4285-94F7-858FBCD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D206-232A-4CA2-BADE-C8E255B4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2C16-AF9C-4C6C-8FDA-4A23E9D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DB84-5811-4043-8671-C359370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141B-9B4E-4C23-9877-02B8B799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C646-51FF-4A79-AC56-A233A292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4102-0263-423C-9FAB-E40F00D2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D881-EFD7-49F2-83EA-7304E651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B16-314F-498D-A77E-93345231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016-DD82-4D80-A2F3-850ECAB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8F5-B352-4A2D-AF05-71AF030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1BF-8418-4B24-A61B-73DA323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DE1-8B40-4DC7-B885-31C5E1D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33C93-ACE3-4D4C-A9A2-D4C85454F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32ED4-99CE-4B65-85D4-9E688BABD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6D6C4-F377-4533-9FC2-48C02DC60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3481D-0E79-4135-9FC3-A23BC25019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nux-mag.com/cache/7357/1.html" TargetMode="External"/><Relationship Id="rId2" Type="http://schemas.openxmlformats.org/officeDocument/2006/relationships/hyperlink" Target="http://lwn.net/Articles/276025" TargetMode="External"/><Relationship Id="rId3" Type="http://schemas.openxmlformats.org/officeDocument/2006/relationships/hyperlink" Target="http://www.linux-mag.com/id/7308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ilfs.org/" TargetMode="External"/><Relationship Id="rId2" Type="http://schemas.openxmlformats.org/officeDocument/2006/relationships/hyperlink" Target="http://www.nilfs.org/" TargetMode="External"/><Relationship Id="rId3" Type="http://schemas.openxmlformats.org/officeDocument/2006/relationships/hyperlink" Target="http://www.nilfs.org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wn.net/Articles/339641" TargetMode="External"/><Relationship Id="rId2" Type="http://schemas.openxmlformats.org/officeDocument/2006/relationships/hyperlink" Target="http://lkml.org/lkml/2009/5/18/289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lwn.net/" TargetMode="External"/><Relationship Id="rId2" Type="http://schemas.openxmlformats.org/officeDocument/2006/relationships/hyperlink" Target="http://www.lwn.net/" TargetMode="External"/><Relationship Id="rId3" Type="http://schemas.openxmlformats.org/officeDocument/2006/relationships/hyperlink" Target="http://www.lwn.net/" TargetMode="External"/><Relationship Id="rId4" Type="http://schemas.openxmlformats.org/officeDocument/2006/relationships/hyperlink" Target="http://elinux.org/" TargetMode="External"/><Relationship Id="rId5" Type="http://schemas.openxmlformats.org/officeDocument/2006/relationships/hyperlink" Target="http://elinux.org/" TargetMode="External"/><Relationship Id="rId6" Type="http://schemas.openxmlformats.org/officeDocument/2006/relationships/hyperlink" Target="http://elinux.org/" TargetMode="External"/><Relationship Id="rId7" Type="http://schemas.openxmlformats.org/officeDocument/2006/relationships/hyperlink" Target="http://vger.kernel.org/vger-lists.html#linux-embedded" TargetMode="External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1-rc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 fil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meml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ed, read-only 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out-of-tree fo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F contracted author to mainlin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linux-mag.com/cache/7357/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purpose flash filesystem, built on wear-leveling layer above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wn.net/Articles/276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-pointing log-structur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9, BUT STILL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linux-mag.com/id/7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LFS = New Implementation of a Log-Structured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inous checkpointing, ability to snapsh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nilfs.org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anced XIP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ll hanging 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ffered to Numonyx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st mainline attempt was August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ort seems to have dropped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tches of inter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AT patent work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attempts by Andrew Tridgell to work around Microsoft VFAT long-name pa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ttempt was controversial, because functionality wa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approach preserve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3396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S-based union 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kml.org/lkml/2009/5/18/2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ome log-structured file system is needed for fast moun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y NILFS or BRTFS will fill thi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F contracted with Free-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patches mainlined in Fall by Thomas Petazz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ffunction_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ut each function in it’s own linker s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llows elimination of unused c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ches sent last July, but I haven’t seen any update sinc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ZMA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for LZMA kernel image compression (up to 30% better than gz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would like to see generic LZMA support in kernel (for e.g. SquashF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http://www.squashfs-lzm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much new development (AXF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ressed sw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test patch is “compcach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es LZO-compressed RAM based block device as swap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ACKed because MM developer disliked the use of xvmall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mpcache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sm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ool to provide information about system memor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ortional Set S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SS), which accounts better for shared pages, and doesn’t lie, like 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visualization (ch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: Matt Mack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at ELC 2009 – is in goo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selenic.com/sm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m_notify p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ition to cgroup system to support notification on low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ches not really noticed b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eedback was addressed, and patch was submitted again (last wee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was funded by C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ootup time is now a hot topic (due to netbook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tel 5-second boot on Mobl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http://lwn.net/Articles/299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http://lwn.net/Articles/314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scripts/bootgraph.pl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for visualization of init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w Readahead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ggressive application optimizations (especially for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330066"/>
                </a:solidFill>
                <a:latin typeface="Arial"/>
              </a:rPr>
              <a:t>Bootup Time patch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vtmpf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form of devfs again (oh no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0.6 second faster boot-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 desktops – who uses dynamic device nodes in embedd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 Coun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Tr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 a new system to provide kernel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ic framework for adding tracing to th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s multiple tracers, selectable at 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rastructure for tracepoint definition, data capture (ring buffer), tracer control and trac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ainlined in 2.6.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bits coming (generic filtering in 2.6.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people.redhat.com/srostedt/ftrace-world.o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-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rupt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inlined 2.6.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omas Gleixner and Ingo Molnar got busy with other stu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ybe a push to mainline this F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Xenom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al-kernel Real-time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to Adeos/I-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xenomai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kelocks submitted by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PM developers rejected th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 this opened a discussion of th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lwn.net/Articles/3186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’m not sure what else is going on l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dio/Video/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de-facto standard for video management for handh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inued uptake in TV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GL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-facto standard for 3D API (/Gaming in embedded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utter (GTK UI Frame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project to analyze SM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SE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haven’t heard anything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Mod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moyo Lin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th-based security mo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s a big deal to get a path-based LSM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e http://elinux.org/TomoyoLinu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entations on using Tomoyo with Android at Japan Technical Jamborees 27 and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inlined in 2.6.25 ker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eems good for embedded (low overhea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LF started project to evaluate TV use c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e http://lwn.net/Articles/29229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mbedded SE Lin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aven’t heard much late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Linux Kernel Vers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– ot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kernel to interact with TPM and ensure trusted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1373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: “Integrity Measurement Architecture IB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ice Trees fo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ice Trees is a mechanism to pass info from bootloader to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pported in X86 and PP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all platforms supported it, it could allow more uniform device dri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so, allows for a single binary to run on multiple plat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a new ho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LNA summit 2 – November in the Nether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profided DLNA hardware and specs to OSS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b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l transferred control to Linux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devices seem to be expl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ing to see consumer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e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emo to use Qt (not a big surp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lwn.net/Articles/341391 (subscriber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enW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r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really know what’s in it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OM notifications in c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 and 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tt Mackall – maintaine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N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te paper completed this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show up on elinux wiki very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be available on e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ng support to Linux kermel for “fusion” ex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tt Mack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now in MAINTAINERS file as an embedded Linux mainta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ining David Woodhouse and Paul Gortm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pays for Matt to do miscellaneous development and advocacy for embedded Linux kerne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Communit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 to build embedded linux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ease use linux-embedded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LD embedded linux developer por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ed by Monta 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6 – 13 July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7 – 9 Oct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8 – 24 Dec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9 – 23 Mar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0 – 10 Jun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1-rc3 – 14 Ju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5452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te for embedded Linux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some technica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gnant in some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inux.org working BOF at EL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lease use it and post stuff t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ideos should be availabl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Linux Sympos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0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noble,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15,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 notified – program looks goo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pan Linux Sympos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ctober 21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s Torvalds is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scheduled for October 19-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akers notified – program shaping 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2360" y="492120"/>
            <a:ext cx="7494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2010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rrent pla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2-14 in San Francisco, CA,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Located with Linux Foundation Collaboration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presentations should go out shor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wn.net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a subscriber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s an invaluable community resource that needs you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elinux.org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vger.kernel.org/vger-lists.html#linux-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take control of kernel away from Enterprise and Desktop develop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 community answer – donate more patches than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other ide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tractions, bribe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 up the good wor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G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an in-kernel debugger gets main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rac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ce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mode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ility to set graphics mode in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MOYO security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6T19:17:49Z</dcterms:modified>
  <cp:revision>31</cp:revision>
  <dc:subject/>
  <dc:title>スライド 1</dc:title>
</cp:coreProperties>
</file>